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9.jpeg" ContentType="image/jpeg"/>
  <Override PartName="/ppt/media/image18.jpeg" ContentType="image/jpeg"/>
  <Override PartName="/ppt/media/image11.wmf" ContentType="image/x-wmf"/>
  <Override PartName="/ppt/media/image17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5FB-7FA9-41B5-8B9B-C8B9B789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C3E-7329-47EC-A92D-7572ED2B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9DC-633F-467E-9CC8-8DCE6301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53C-6C12-4819-BB30-A3B0867A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2BA7-64E2-4DAA-85C6-46120D2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129-030C-486E-B4A9-E9845F87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25B6-60DD-4E44-8CEA-5459282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2279-7EFB-4E3D-B443-107A81F2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771C-4C02-4513-9D00-65BC6B1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D092-67BF-4EAA-9F64-83BA111C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28A-10D4-4B5D-833D-B909230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98F-F3A6-49FF-8C80-BF40632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B6D-9961-4CB9-8CF8-472DF76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78C9-8304-4C3E-AF35-5713236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662-71B6-4CC7-A70A-2D2B126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725-54C2-4A89-A443-CB5B7A35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D903-5EE4-42A0-86DC-316C8B4A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7611-601A-480A-AEAE-15B0DCB4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70A5-81D7-4580-913E-758D875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EE09-0163-4890-B51A-8BDA1E7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0D69-6ADE-47A8-8D3F-4FEB497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7936-6F83-4B0C-B5A8-90D97CA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B8F-BFCB-486B-9A79-14A792A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FA6D-D980-4621-91C5-21695931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FEEB-A221-487D-A31A-D1266C39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30F8-B117-4D1D-A73C-EC75DE7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1E78-DFC3-4AFC-A1B4-846716B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D764-2A08-47A1-9E86-1AF5E122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D55B-38EE-48A6-8B73-87AF17E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B499-081E-498A-A84E-A0E25C65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DB5-CB4F-43C8-9A96-F689EC4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B72-731E-4BE7-BE90-5709BEA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12F-DCC9-44F1-8A34-C49A6C2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4F1-ABE1-40E0-841A-1EEC8275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DC2-F3AD-4CE3-A906-53283E5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47D-8F44-4AEB-B665-F7E8FC6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D47-9197-4BD3-92A7-9DF5C60EF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000-EF72-4326-87DD-A1C7C3A284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2186-C15B-4C49-83F3-74092D865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flickr.com/photos/violentz/21185312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30280" y="987480"/>
            <a:ext cx="8327880" cy="1481040"/>
          </a:xfrm>
          <a:prstGeom prst="rect">
            <a:avLst/>
          </a:prstGeom>
          <a:ln w="0">
            <a:noFill/>
          </a:ln>
        </p:spPr>
      </p:pic>
      <p:pic>
        <p:nvPicPr>
          <p:cNvPr id="134" name="Subtitle 2" descr=""/>
          <p:cNvPicPr/>
          <p:nvPr/>
        </p:nvPicPr>
        <p:blipFill>
          <a:blip r:embed="rId2"/>
          <a:stretch/>
        </p:blipFill>
        <p:spPr>
          <a:xfrm>
            <a:off x="469800" y="3200400"/>
            <a:ext cx="830916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0"/>
          <p:cNvGraphicFramePr/>
          <p:nvPr/>
        </p:nvGraphicFramePr>
        <p:xfrm>
          <a:off x="0" y="-190440"/>
          <a:ext cx="9448920" cy="70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90440"/>
                    <a:ext cx="9448920" cy="70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1024"/>
          <p:cNvGraphicFramePr/>
          <p:nvPr/>
        </p:nvGraphicFramePr>
        <p:xfrm>
          <a:off x="23760" y="14400"/>
          <a:ext cx="912024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4400"/>
                    <a:ext cx="912024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1029"/>
          <p:cNvSpPr/>
          <p:nvPr/>
        </p:nvSpPr>
        <p:spPr>
          <a:xfrm>
            <a:off x="3124080" y="152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ive Thru Tim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Rectangle 1030"/>
          <p:cNvSpPr/>
          <p:nvPr/>
        </p:nvSpPr>
        <p:spPr>
          <a:xfrm>
            <a:off x="8381880" y="1752480"/>
            <a:ext cx="76212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5 Number Summary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In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2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1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Out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1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5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2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6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he Test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905120"/>
            <a:ext cx="8076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1- 2-Sample T-test testing whether the average drive thru time is equal to the average inside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2- Mean difference test, Testing weather the average drive thru time found is equal to the national average for each restaurant visited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 independent 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 Norm pop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One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=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Ha: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&gt;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T=                  = -1.153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P(t &gt; -1.1533 | df = 27.6011) = .8700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724280" y="137160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8119"/>
                </a:solidFill>
                <a:latin typeface="Century Gothic"/>
                <a:ea typeface="Arial"/>
              </a:rPr>
              <a:t>1 </a:t>
            </a: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= Inside ti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8119"/>
                </a:solidFill>
                <a:latin typeface="Century Gothic"/>
                <a:ea typeface="Arial"/>
              </a:rPr>
              <a:t>2 </a:t>
            </a: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= Drive Thru ti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1143000" y="2819520"/>
                <a:ext cx="18381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1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fail to reject ho because the p-valu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.87007  is less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s of going through the drive thru of a fast food restaurant is greater then going insid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fidence Interval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± (t*)(s/  n) =( -.295, .6283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are 99% confident that the mean difference of Drive thru times and inside times is between -.295 and .62834 m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2590920" y="2209680"/>
            <a:ext cx="152280" cy="76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2743200" y="198072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al Pop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5748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Two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2bf"/>
                </a:solidFill>
                <a:latin typeface="Century Gothic"/>
              </a:rPr>
              <a:t>Ho: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2da2bf"/>
                </a:solidFill>
                <a:latin typeface="Century Gothic"/>
                <a:ea typeface="Arial"/>
              </a:rPr>
              <a:t>d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=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Ha: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 µ</a:t>
            </a:r>
            <a:r>
              <a:rPr b="0" lang="en-US" sz="3000" spc="-1" strike="noStrike" baseline="-25000">
                <a:solidFill>
                  <a:srgbClr val="2da2bf"/>
                </a:solidFill>
                <a:latin typeface="Century Gothic"/>
                <a:ea typeface="Arial"/>
              </a:rPr>
              <a:t>d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≠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T=              = 4.0414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( t &gt; 4.0414|df = 4) = .0156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0"/>
              <p:cNvSpPr txBox="1"/>
              <p:nvPr/>
            </p:nvSpPr>
            <p:spPr>
              <a:xfrm>
                <a:off x="1066680" y="3200400"/>
                <a:ext cx="10432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142640"/>
            <a:ext cx="4191120" cy="5181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st Food restaurants have been around since 1921 when the first White Castle open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hamburger invented in 1916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drive-thru restaurant invented in 1948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cember 12, 1948 First McDonalds opene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rger King open in the1950s and Wendy’s came along in 196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reject Ho in favor of Ha because the p-value of .0156 is greater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observed drive thru times were not equal to the national drive thru averages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Margin Of Error</a:t>
            </a: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ordering different things or amount in which you 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different time of day (how bus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Number of people on shif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who serves yo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timing not accurate(human erro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Personal Analysi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collection of data we did find somewhat difficult just because of the huge amount of data need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started out by buy all the food ourselves but then reverted to just timing people because of cos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 was fun but challeng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Personal Thoughts Cont.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one were surprising because we expected the drive thru times to be faste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two were surprising also because they did not fit the national averag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7" descr="http://www.dlife.com/opencms/export/pics/dLife_Images/fast_food.jpg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e find this applicable to any person wanting to get food in a hurry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t always is what people try to advertise is always tru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st restaurant = </a:t>
            </a:r>
            <a:r>
              <a:rPr b="1" lang="en-US" sz="2600" spc="-1" strike="noStrike">
                <a:solidFill>
                  <a:srgbClr val="da1f28"/>
                </a:solidFill>
                <a:latin typeface="Century Gothic"/>
              </a:rPr>
              <a:t>WENDY’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932120" y="2057400"/>
            <a:ext cx="13716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8" descr="Lassie sure loves Wendy's Frosties 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90720"/>
            <a:ext cx="37274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6" descr=""/>
          <p:cNvPicPr/>
          <p:nvPr/>
        </p:nvPicPr>
        <p:blipFill>
          <a:blip r:embed="rId1"/>
          <a:stretch/>
        </p:blipFill>
        <p:spPr>
          <a:xfrm>
            <a:off x="-201600" y="1547640"/>
            <a:ext cx="9723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icked a SRS of 3 types of each restaurant  by using yellowpages.com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each place we gathered 10 times from getting food inside and 10 from going through the drive thr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0" name="Content Placeholder 4" descr="ts.jpg"/>
          <p:cNvPicPr/>
          <p:nvPr/>
        </p:nvPicPr>
        <p:blipFill>
          <a:blip r:embed="rId2"/>
          <a:stretch/>
        </p:blipFill>
        <p:spPr>
          <a:xfrm>
            <a:off x="4297320" y="1944720"/>
            <a:ext cx="47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4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49780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0 Easton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80 W Street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6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60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 West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Newtown, PA 18940-43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500 W Moreland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19090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865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90 N Main S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719 N Broad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Lansdale, PA 1944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20 EASTON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 US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0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755 York Rd Ste 204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395 York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Jamison, PA 18929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10 Inverness Cir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Chalfont, PA 1891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39 Doyle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1024"/>
          <p:cNvGraphicFramePr/>
          <p:nvPr/>
        </p:nvGraphicFramePr>
        <p:xfrm>
          <a:off x="609480" y="1676520"/>
          <a:ext cx="8077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77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9"/>
          <p:cNvSpPr/>
          <p:nvPr/>
        </p:nvSpPr>
        <p:spPr>
          <a:xfrm>
            <a:off x="14479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ata for Going Ins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5"/>
          <p:cNvGraphicFramePr/>
          <p:nvPr/>
        </p:nvGraphicFramePr>
        <p:xfrm>
          <a:off x="7924680" y="1600200"/>
          <a:ext cx="1076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600200"/>
                    <a:ext cx="1076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Data for Drive Thru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52280" y="1600200"/>
          <a:ext cx="784872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3809880" y="1828800"/>
          <a:ext cx="4953240" cy="4108320"/>
        </p:xfrm>
        <a:graphic>
          <a:graphicData uri="http://schemas.openxmlformats.org/drawingml/2006/table">
            <a:tbl>
              <a:tblPr/>
              <a:tblGrid>
                <a:gridCol w="2065320"/>
                <a:gridCol w="1363680"/>
                <a:gridCol w="15242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me of Restaur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ime in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ur Overall Average time(m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cDona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rger 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ndy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F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ick-Fli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Object 0"/>
          <p:cNvGraphicFramePr/>
          <p:nvPr/>
        </p:nvGraphicFramePr>
        <p:xfrm>
          <a:off x="1905120" y="1828800"/>
          <a:ext cx="114300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28800"/>
                    <a:ext cx="114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"/>
          <p:cNvGraphicFramePr/>
          <p:nvPr/>
        </p:nvGraphicFramePr>
        <p:xfrm>
          <a:off x="609480" y="1828800"/>
          <a:ext cx="1295640" cy="3962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828800"/>
                    <a:ext cx="1295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32767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ll Tim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10:42Z</dcterms:created>
  <dc:creator> </dc:creator>
  <dc:description/>
  <dc:language>en-US</dc:language>
  <cp:lastModifiedBy> </cp:lastModifiedBy>
  <dcterms:modified xsi:type="dcterms:W3CDTF">2008-06-11T15:42:55Z</dcterms:modified>
  <cp:revision>39</cp:revision>
  <dc:subject/>
  <dc:title>Slide 1</dc:title>
</cp:coreProperties>
</file>